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4348-6123-4CF1-B80F-B5FA000E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96FE-B22D-43E4-936F-99862D36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408B-D5AC-4D97-90A6-A0163FE6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1125-E986-49DB-A376-1DF5C02D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E76-B1BF-45F4-9816-589C7EA4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0617-D20E-4A0E-92C9-7B2F8EF0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DF0B-511E-4CBD-974D-9BD0DAB4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8192-D79A-4674-A65F-617D0E3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90E5-1027-401F-9605-329410A0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FBD-F3A3-4098-90F7-470F3E8B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F8BA-A923-412D-9A1E-8192CF4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1DA5-6EE9-4AFB-A93E-0880C65F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470D-4CF1-4EA7-A99A-3CE23AE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5CF0-14F3-4666-BB50-27A44001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EFA4-C88A-4249-8F9E-3A90CFCF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C40B-9198-4727-BE94-0031E17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1741-371D-49CA-8A34-ACB170DE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5AEE-F49F-4528-8B30-8FFA540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AC45-8CCB-44BC-BB74-02990FB5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8F3D-A46A-46D8-BD40-BE33465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C95A-37C4-481F-A701-D5D765BE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08A8-4087-4BE1-9406-9EC376A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53A9-C1D5-48D5-BFE9-835F24E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22B0-0E08-4017-8E76-5FC468C3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B582-E3EC-46BE-BEDD-277175E8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DAE4-BB8E-47B1-809D-5F8B8124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xinu.mscs.mu.edu/HOWTO:Build_and_Deploy_XIN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2204640"/>
            <a:ext cx="64357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Embedded XINU</a:t>
            </a: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  </a:t>
            </a:r>
            <a:br>
              <a:rPr sz="5000"/>
            </a:b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SW &amp; HW preparation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15800" y="4266720"/>
            <a:ext cx="2824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09/5/2008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David You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oftware prepar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ownload the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Embedded XINU ver 1.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ross-compil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A cross-compiler from a host computer's architecture to MIPSEL (little endian MIP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666699"/>
                </a:solidFill>
                <a:uFillTx/>
                <a:latin typeface="굴림"/>
                <a:hlinkClick r:id="rId1"/>
              </a:rPr>
              <a:t>http://xinu.mscs.mu.edu/HOWTO:Build_and_Deploy_XINU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erial communication softwa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FTP server software (30-day Trial version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http://www.tftp-server.com/tftp-download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ardware prepar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odified WRT54GL rout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http://xinu.mscs.mu.edu/HOWTO:Modify_the_Linksys_hardwa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omputer(s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un TFTP serv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ompile the XINU with cross compil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onnect the router trough the serial communic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n extra rout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Establishing a small network between a computer and the modified router for downloading the XINU onto the router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098440" cy="168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8764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2016360" cy="183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2340000" y="2924280"/>
            <a:ext cx="1079640" cy="107928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2924280"/>
            <a:ext cx="1079640" cy="108108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084640"/>
            <a:ext cx="2447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429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Network connection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581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Serial Communication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6086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IP: 192.168.0.130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6086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IP: 192.168.0.101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How to download XINU onto the router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http://xinu.mscs.mu.edu/HOWTO:Connect_to_a_modified_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eck the connection among the devic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eck the IP address given by the D-link router to the computer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un a TFTP server program and put the XINU boot image in a proper direc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Make serial conne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8 data bits, no parity bit, and 1 stop bit (8N1), 115200 bp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et the CFE promp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irst, push the CTRL+C with the serial connection open and then power on the WRT54G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ange the IP address of the networ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FE&gt; ifconfig eth0 -aut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ownload the boot ima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FE&gt; boot -elf [TFTP server IP]:xinu.boo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3:37:21Z</dcterms:created>
  <dc:creator>Daekeun You</dc:creator>
  <dc:description/>
  <dc:language>en-US</dc:language>
  <cp:lastModifiedBy>Daekeun You</cp:lastModifiedBy>
  <dcterms:modified xsi:type="dcterms:W3CDTF">2008-09-05T01:17:23Z</dcterms:modified>
  <cp:revision>9</cp:revision>
  <dc:subject/>
  <dc:title>System environment</dc:title>
</cp:coreProperties>
</file>